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C68-C332-406F-BC50-E5343948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DE5-91DC-4032-84D0-B8AB489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6C4-A3DC-4876-A0E9-F3FFF23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130-6B8A-4BA7-BF97-F814DBBA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9B3-1913-4026-9151-2D45CBB5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612-4A2B-4A11-8CA1-93F35F1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478-31BA-4B23-8E48-5C9CDE3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805-11A6-40AB-9C22-7E094A1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F83-7DC0-4CC3-B13A-932A2D46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06B-5F2D-4D6A-97C9-1C0CDE4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872-7015-461B-B1B7-C4CC604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965-97C8-4CA0-B601-A5695AE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61F9-C8FB-4ACA-8AB8-F42B8194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45028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3ffc9"/>
                </a:solidFill>
                <a:latin typeface="Trebuchet MS"/>
              </a:rPr>
              <a:t>South Amer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160" y="6603840"/>
            <a:ext cx="6608520" cy="10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dbfe"/>
                </a:solidFill>
                <a:latin typeface="Trebuchet MS"/>
              </a:rPr>
              <a:t>By: Cortney, Lax, Megan, Karla, Brett, and M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844720" y="711360"/>
            <a:ext cx="431496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Rainfall and climat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razil: 20 degrees-30 degrees  celsi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fall: 40 mm. to 150 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Upper South Amer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Temp: low teens to high 20'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: 10-120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Lower South Amer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Temp: 15-40degrees celci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ain:55-95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Physical Fea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8840" y="1727280"/>
            <a:ext cx="9371160" cy="63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9900ff"/>
                </a:solidFill>
                <a:uFillTx/>
                <a:latin typeface="Trebuchet MS"/>
              </a:rPr>
              <a:t>Andes Mount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Trebuchet MS"/>
              </a:rPr>
              <a:t>runs through Peru, Bolivia, Chile, and Argent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Trebuchet MS"/>
              </a:rPr>
              <a:t>its highest peak, Mt. Anconcagua, is 22,834 f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Trebuchet MS"/>
              </a:rPr>
              <a:t>Amazon Rain 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covers 40% of South America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world's largest rain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between 20-40 million species(mostly insects) inhabit Amazon Rain For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rebuchet MS"/>
              </a:rPr>
              <a:t>20% of the world's oxygen produced the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Trebuchet MS"/>
              </a:rPr>
              <a:t>Amazon Ri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carries 1/5 of the world's fresh river wa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6,280 km lo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rebuchet MS"/>
              </a:rPr>
              <a:t>runs through Brazil, Colombia, Ecuador, Peru, and Venezuela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ore Physical Fea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9900"/>
                </a:solidFill>
                <a:uFillTx/>
                <a:latin typeface="Trebuchet MS"/>
              </a:rPr>
              <a:t>Land Co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tropical rain forests in northern areas,  Amazon Ba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semi-desert and desert areas in western to southern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croplands and grasslands cover eastern to south eastern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Trebuchet MS"/>
              </a:rPr>
              <a:t> </a:t>
            </a:r>
            <a:r>
              <a:rPr b="0" lang="en-US" sz="2100" spc="-1" strike="noStrike" u="sng">
                <a:solidFill>
                  <a:srgbClr val="00ff00"/>
                </a:solidFill>
                <a:uFillTx/>
                <a:latin typeface="Trebuchet MS"/>
              </a:rPr>
              <a:t>Major Physical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ndes Mounta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Brazilian Highla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Pamp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Patagon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mazon Bas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Guiana Highla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Trebuchet MS"/>
              </a:rPr>
              <a:t>Amazon Ri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72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Natural 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920" y="798480"/>
            <a:ext cx="420084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Coffee Beans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Cocoa Bea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Banan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Ti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Trebuchet MS"/>
              </a:rPr>
              <a:t>Ru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Gaux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Sp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Sa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Urani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Iron 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Sil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C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Trebuchet MS"/>
              </a:rPr>
              <a:t>Natural g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Trebuchet MS"/>
              </a:rPr>
              <a:t>O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495680" y="812880"/>
            <a:ext cx="5186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Trebuchet MS"/>
              </a:rPr>
              <a:t>Diamond</a:t>
            </a: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Fis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ff"/>
                </a:solidFill>
                <a:latin typeface="Trebuchet MS"/>
              </a:rPr>
              <a:t>Forest Products</a:t>
            </a:r>
            <a:r>
              <a:rPr b="0" lang="en-US" sz="2700" spc="-1" strike="noStrike">
                <a:solidFill>
                  <a:srgbClr val="ff00ff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2440"/>
            <a:ext cx="9672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Products/Land U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894960"/>
            <a:ext cx="9091800" cy="68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roducts: </a:t>
            </a:r>
            <a:r>
              <a:rPr b="0" lang="en-US" sz="2100" spc="-1" strike="noStrike">
                <a:solidFill>
                  <a:srgbClr val="c6efff"/>
                </a:solidFill>
                <a:latin typeface="Trebuchet MS"/>
              </a:rPr>
              <a:t>               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Perfume           </a:t>
            </a:r>
            <a:r>
              <a:rPr b="0" lang="en-US" sz="2700" spc="-1" strike="noStrike">
                <a:solidFill>
                  <a:srgbClr val="0000ff"/>
                </a:solidFill>
                <a:latin typeface="Trebuchet MS"/>
              </a:rPr>
              <a:t>Urban</a:t>
            </a: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ody 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ath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ath S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o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Jewe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rebuchet MS"/>
              </a:rPr>
              <a:t>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nd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Ranching/He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Commercial 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Wide Spread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For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ajor C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422360"/>
            <a:ext cx="9690120" cy="57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ogota            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o Paulo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Rio de Janei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lva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Car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Lapa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elo Horizo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rasil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Guayaqu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Medell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Santia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Li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Buenos Ai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Trebuchet MS"/>
              </a:rPr>
              <a:t>Qui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3ffc9"/>
                </a:solidFill>
                <a:latin typeface="Trebuchet MS"/>
              </a:rPr>
              <a:t>More Major C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96724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ogota- Guatauita Lago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Indigerous- People store go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Rio de Janerio- Rio is a well known Brazilian City.  Famous land marks like Copacacbana Bea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6efff"/>
                </a:solidFill>
                <a:latin typeface="Trebuchet MS"/>
              </a:rPr>
              <a:t>Buenos Aires- Rich cultral identety.  Lots of places to go and see like worlds finest opra hou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effco Schools</cp:lastModifiedBy>
  <dcterms:modified xsi:type="dcterms:W3CDTF">2010-04-15T20:23:49Z</dcterms:modified>
  <cp:revision>1</cp:revision>
  <dc:subject/>
  <dc:title>PowerPoint Presentation</dc:title>
</cp:coreProperties>
</file>